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F60-5D04-4A7C-9FFF-F7F74854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4A0-63C8-4458-BC1B-3B8576BB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0B6-B80C-422D-8CFB-F0081C2C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429-90DB-4C6A-B4C9-8C40179E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CE11-F150-4EBF-AA1F-94F254BF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61C2-0EDD-412F-899C-F8DAB921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8E14-8466-4D35-A1B2-4643A0E2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7A8B-642F-4492-8D85-DABF1610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B719-FFFA-4158-9863-0D0D6F6C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D818-C3CF-42B7-8419-88E9BFB1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B652-8BC5-4D60-BC3D-FEEC55B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B37-9970-4998-9F10-1549449C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7348-7426-4981-887E-10FEF8C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9341-90E9-4C4E-82CC-A5EF4D23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A0F9-98DD-4A20-BCD7-B99A3A98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818D-4D27-47CF-9DD1-E906AAEF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D2AF-020D-4F3D-B507-311904C9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D1B-AB4F-4A76-AAFA-7B4119B2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F40-E93F-4607-B00E-720072D5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BD9-247F-435B-A9D9-26418D97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C7F-5627-4EA9-BFEF-E206A65F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808-23A5-49A3-A6A1-5DCEDF7B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CB0-B9C2-49CF-8C3A-8DC3A717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892-8FDB-4AA3-B1DD-E5FB925F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9509-D775-49E8-862B-035482EDD0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DC41-11FE-4BF2-BEA2-AFDCA90E98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osting Social and Emotional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petenc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Integrating social and emotional learning into the curriculum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tudents should be taught how to take different roles, plan a project, make decisions, solve problems, and negotiate with one another to achieve a go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ors need not view academic learning and social and emotional learning as opposite ends of a tug-of-war. When both support each other, students are more apt to be engaged in learning and develop themselves personally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al and emotional learning is the process by which people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e and manage emo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 positive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lve probl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motivated to accomplish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responsible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 risky behavi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and Emotional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and emotional skills are crucial to success in: school, work and personal lif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9160" y="7628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ve most important skills for success in the workplace this century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Casner-Lotto &amp; Barrington, 2006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essionalism / work eth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mwork / collabo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al commun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thics / social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comprehen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al and Emotional Competenc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ve Competency are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cial awarenes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awaren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manag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lationship skil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ponsible decision ma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Aware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others are thinking and fe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athizing with people different from oursel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wing compa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earch correlates school connectedness with academic motivation (Resnick et al., 1997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lf Awareness and Self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to building a learning commun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awareness includes skills in recognizing our own  emotions and cultivating our strength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management involves managing emotions and establishing and working toward short or long term go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1480" y="83412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lationship Skills and Decision Mak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e to teamwork/ collaboration skills and socially responsible behav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can role play the skills involved in relationship building, i.e. apologiz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ing responsibility for one’s behavior is a key component of professionalism and workplace eth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4:23:59Z</dcterms:created>
  <dc:creator>North Rockland Schools</dc:creator>
  <dc:description/>
  <dc:language>en-US</dc:language>
  <cp:lastModifiedBy>North Rockland High School</cp:lastModifiedBy>
  <dcterms:modified xsi:type="dcterms:W3CDTF">2009-12-03T14:00:57Z</dcterms:modified>
  <cp:revision>3</cp:revision>
  <dc:subject/>
  <dc:title>Boosting Social and Emotional Competence</dc:title>
</cp:coreProperties>
</file>